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860-9A10-4D80-A356-6A5BF65C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1DE-E666-4535-B0C6-63F31AB1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4FF-1BC9-44A3-AE2D-913A2A9E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76F-5796-4673-8115-F80E4EBE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2C2-2FB8-4361-A009-92063FA2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FAD-81DD-46CC-A946-A7145AEA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13D-E5F3-4F1A-8A69-1A32CE2A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3A9-68C0-42FA-ACAC-C69D5B33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123-A1AE-4F35-B781-40132117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19C-47A1-43BC-823A-5FF1B25E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AF6-47EF-40ED-AFDE-C565EE04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D31-DB05-4F93-87F4-C3F37D0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B1B5-FC73-4DFC-9653-E8586CC69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%20healer%20teacher%20comforter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304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82520"/>
            <a:ext cx="28954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 عظيمٌ عظيمٌ عظيمٌ يا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 في محبت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 في أمانت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ي تحري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</a:rPr>
              <a:t>عظيم أيضا في شفائ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12:55Z</dcterms:created>
  <dc:creator>SUZANNE.MD</dc:creator>
  <dc:description/>
  <dc:language>en-US</dc:language>
  <cp:lastModifiedBy>USER</cp:lastModifiedBy>
  <dcterms:modified xsi:type="dcterms:W3CDTF">2003-02-17T14:28:32Z</dcterms:modified>
  <cp:revision>2</cp:revision>
  <dc:subject/>
  <dc:title>PowerPoint Presentation</dc:title>
</cp:coreProperties>
</file>